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8.gif" ContentType="image/gif"/>
  <Override PartName="/ppt/media/chimes.wav" ContentType="audio/x-wav"/>
  <Override PartName="/ppt/media/image16.jpeg" ContentType="image/jpeg"/>
  <Override PartName="/ppt/media/suction.wav" ContentType="audio/x-wav"/>
  <Override PartName="/ppt/media/image10.wmf" ContentType="image/x-wmf"/>
  <Override PartName="/ppt/media/image7.gif" ContentType="image/gif"/>
  <Override PartName="/ppt/media/image9.wmf" ContentType="image/x-wmf"/>
  <Override PartName="/ppt/media/image6.gif" ContentType="image/gif"/>
  <Override PartName="/ppt/media/image17.wmf" ContentType="image/x-wmf"/>
  <Override PartName="/ppt/media/image14.gif" ContentType="image/gif"/>
  <Override PartName="/ppt/media/type.wav" ContentType="audio/x-wav"/>
  <Override PartName="/ppt/media/image18.png" ContentType="image/png"/>
  <Override PartName="/ppt/media/%E6%BB%91%E5%8A%A8.wav" ContentType="audio/x-wav"/>
  <Override PartName="/ppt/media/image15.gif" ContentType="image/gif"/>
  <Override PartName="/ppt/media/image12.wmf" ContentType="image/x-wmf"/>
  <Override PartName="/ppt/media/image11.jpeg" ContentType="image/jpeg"/>
  <Override PartName="/ppt/media/image1.wmf" ContentType="image/x-wmf"/>
  <Override PartName="/ppt/media/image5.gif" ContentType="image/gif"/>
  <Override PartName="/ppt/media/image13.wmf" ContentType="image/x-wmf"/>
  <Override PartName="/ppt/media/image2.gif" ContentType="image/gif"/>
  <Override PartName="/ppt/media/image3.gif" ContentType="image/gi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7912-2FC2-4DC5-BD25-658651384B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开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0A8-2C79-41E3-B5BE-5FA5C627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AC0-CAD6-4887-8608-D2C3AEB5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48C74-6872-4DB4-A240-3860D1F6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7D7B7-163C-4B86-9E60-CBEFF482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07B18-E26F-499D-AF9F-DD0DB9C4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1FE35-ADC9-4306-B18D-EBA2C6E3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77472-9560-4AF3-8D76-30B4C66E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00F86-4FB5-41AA-8563-954FF294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B15B7-B36E-4830-83BC-08D638DA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260F7-A5C7-406F-963F-8DC5254E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1D9ED-6DCB-4257-A16B-C89FF261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15D3F-1EF7-4FE4-B924-03D969CF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DA2-3011-40AE-9187-84445762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857E9-DBDC-4B6B-93C9-6C8D2241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4535D-97F9-4A1E-BE94-40ACED04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816B7-4BC6-4E07-B4E0-0902BAED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B1D67-8F12-4FBB-B766-09B34CB7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49531-9131-4ADB-8853-A43C649D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4278E-D85C-42B8-97A2-124524A4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A602A-7DBF-48D4-B30E-45E6ED01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F8127-713A-4DB8-A7FB-D3326D91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53FA8-1FEC-4C4A-84DA-FDC938A5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3CC03-7664-49BA-98CD-DDA23583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774-D6E9-40B1-9120-F1D9BEB6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6837A-3B91-4A5F-828D-2828323D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E066-61FC-4AD3-978B-433EE036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6931-806E-4DB7-9CE8-2AFA979B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B12C-A2A2-4B28-AF64-A26A6D0D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802D-3635-49F6-9755-78D83F04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50B7-0578-4114-82A7-7A377CF3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223A-296D-4BF1-9A1C-77A59287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A302-5901-4588-B581-D4B295FB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75D-4446-44D1-B62F-1A8A5A3A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40C8-1FC6-4B3E-BD2E-816C239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A9D8-DDBA-4BE8-94D3-FB793120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92A1-F5D4-4961-BEDA-633603B8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7F64-64A3-42F3-AF83-3F3A45B0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550F-D87C-42E2-BF66-5E8E1702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B47B-CA2B-4E84-BBDD-BBE6792E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CF291-A5AB-4BDB-8ED2-CE04CB6E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1F95-E408-4399-8362-159FFD68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1087C-AA65-4063-A871-F52D4BDE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DBD8-DF5F-47F7-9456-690C6260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995-FFB2-4D6F-B36F-73EC4144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7A40D-DE7C-4F0D-9B56-A58ED23F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25B20-2799-4D8C-81BD-9C6E67C8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18F7-96CB-49B2-A438-6BFF7C13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5312-B09F-42B2-88E0-C492446A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C9BD5-E50F-4DB5-BF10-7D13D4F6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4F3BB-4477-4509-9525-3235F7F2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A74BF-0B69-45A9-9589-42F78DD2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B57FC-A21D-48E6-83CE-29CF5861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4F2C-48B2-4113-9CE9-B981A16E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71909-06EE-420D-984F-48410F2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251-A8D9-45F4-9817-F33CD22E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AE13A-4677-4F7D-B4DB-6723FC59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38403-E994-415F-8610-8CD05DD5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B7756-B89C-424A-AE03-2194222F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F55CF-B9F8-4420-9E12-9275AD58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7B3DF-AEAF-4122-8AA5-3CC518B0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A34F9-8FF4-43CA-928F-3B97CC1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5BD24-73D7-463C-9928-3226764F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18861-7409-4D44-8C30-DD856017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3FF7F-9122-427D-8365-A06AD40F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93E98-4150-4220-8D75-F543B627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40A-ECFD-4AA9-80DC-AABCF49C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B14D0-62C1-43EB-856B-441837A1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9631E-2168-40C6-A9F6-5AA1FA0D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A5A0-1820-454A-9A66-75634698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B3176-D8DA-4867-94B3-A39FB5CC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9509-47AA-4964-A26B-43CD0B3F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60E9B-DC43-4C1B-84C8-2EAAB9A5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AF061-971B-4356-8E8A-CBED473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AB3FD-71B8-4F83-B92A-BF981982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EB3F7-3004-48CD-99E7-2C2F52A1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09606-BA2F-4C42-BC0F-29A6E415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C19-EB1F-4F7C-9E55-A3E6A8D9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81E3E-07F2-4553-81BC-45B19FD0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3F3AC-5639-4C42-87D6-CC1BDF0E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EE3FE-047C-47A4-AB78-0CB80D2E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DC869-E499-4B11-8DB0-53D0C8B0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DA75-A31C-496C-95E6-401312DA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1A9B2-04DA-4C17-9A50-1736BB24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ACFEC-8255-42DD-B296-BA335367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6CC19-1C39-4EEE-B325-219EFD60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C7C10-7881-48F7-A40C-415E921E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1631F-ABE3-4ADC-B7CD-2B941E74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D7B-DB53-4192-8305-D951BAA7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35E1B-C39C-4898-835D-FCC70F7A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A3F48-D431-475C-8BA3-55AEA061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99F65-7CE1-4579-A41F-0ADEABF8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472EC-A786-4A74-BA8E-685270C9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D1559-751E-445B-8749-3E083172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2DC77-AFA6-470A-93B4-223A1C57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520F6-178C-486C-825E-3AAAACC3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733B1-E105-466C-80F2-7D9735D1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DEA8-BC5F-4692-93CB-B6189D9E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1C546-275B-4C75-8FFC-DDF1505B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A78-432B-49A4-BBD4-7F20EB16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62404-5298-4A59-A481-D6801A01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5C6EB-6502-4CC3-918F-986E0E88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F42F0-CC13-4E19-A5FD-5C8EC155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AF588-A014-4CB7-B5EB-00B911E7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78774-45E1-46C4-8FF4-E1FC75B8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6930C-C379-4098-A6EB-25337CB4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196AE-EAE9-4809-9B50-F02F33F4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8B4E4-F66F-49AF-A02B-8FBC0C21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6795D-FC3B-4BD8-86F1-0E866515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57E61-9420-445C-9F06-EE96BD7B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991-F906-4D3B-B333-6A82F387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FE7D7-0BD2-44A9-8613-33878DC6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2660A-E85D-41BA-8875-41D1E058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0E77A-C28A-4D62-9B6E-806A263A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FB036-6CF3-4A41-8F96-9B6A14E8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EFCD2-3264-46DC-B62F-B8267A45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A1012-72A3-4772-8674-28C19EA5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495BF-EF4E-4864-B405-4AFB3994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40E13-90F7-4E7B-B027-9139EF30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95AEB-86B7-4CCF-831B-EA39F89C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529F2-1EEE-41DC-8F90-8720E0E5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E53D-F5B4-454C-B774-8ECB7D4FCF7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819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820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dt" idx="28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C7DC-CDB8-49A7-9616-02427CE6B8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8167-5EF3-4F96-83CF-A7F1CC7EF0F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CC80-BD1B-42BA-BB83-E7EC3FCAEF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AD8B-D540-4C3F-983D-385FB27468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BDA2-FFD1-46AB-90F4-DBEAB436ED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B22F-05E4-4DAB-BC3E-43B7F147F3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53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99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13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427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41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455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469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483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85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19C1-9F02-4054-9D35-2D8C496C1E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41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55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dt" idx="22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ftr" idx="2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D75F-164D-4A14-BC31-3D4CDB67F1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05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755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756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C43C-F81F-4916-A7A3-C70AEF1A8E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4.wmf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&#35838;&#20214;\ss.swf" TargetMode="External"/><Relationship Id="rId2" Type="http://schemas.openxmlformats.org/officeDocument/2006/relationships/image" Target="../media/image5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&#28369;&#21160;.wav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&#35838;&#20214;\ss.swf" TargetMode="External"/><Relationship Id="rId2" Type="http://schemas.openxmlformats.org/officeDocument/2006/relationships/image" Target="../media/image5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audio" Target="../media/suction.wav"/><Relationship Id="rId8" Type="http://schemas.openxmlformats.org/officeDocument/2006/relationships/audio" Target="../media/chimes.wav"/><Relationship Id="rId9" Type="http://schemas.openxmlformats.org/officeDocument/2006/relationships/audio" Target="../media/suction.wav"/><Relationship Id="rId10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258560" y="1125000"/>
            <a:ext cx="6985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元一次不等式组的应用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1979640" y="2276640"/>
            <a:ext cx="5689440" cy="2566800"/>
            <a:chOff x="1979640" y="2276640"/>
            <a:chExt cx="5689440" cy="2566800"/>
          </a:xfrm>
        </p:grpSpPr>
        <p:grpSp>
          <p:nvGrpSpPr>
            <p:cNvPr id="890" name=""/>
            <p:cNvGrpSpPr/>
            <p:nvPr/>
          </p:nvGrpSpPr>
          <p:grpSpPr>
            <a:xfrm>
              <a:off x="5148360" y="2276640"/>
              <a:ext cx="2520720" cy="2566800"/>
              <a:chOff x="5148360" y="2276640"/>
              <a:chExt cx="2520720" cy="2566800"/>
            </a:xfrm>
          </p:grpSpPr>
          <p:pic>
            <p:nvPicPr>
              <p:cNvPr id="8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48360" y="3357720"/>
                <a:ext cx="2520720" cy="14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19640" y="2276640"/>
                <a:ext cx="581040" cy="13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08720" y="4002120"/>
                <a:ext cx="231840" cy="65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04000" y="3716280"/>
                <a:ext cx="50472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5" name=""/>
            <p:cNvGrpSpPr/>
            <p:nvPr/>
          </p:nvGrpSpPr>
          <p:grpSpPr>
            <a:xfrm>
              <a:off x="1979640" y="2637000"/>
              <a:ext cx="2521080" cy="1944360"/>
              <a:chOff x="1979640" y="2637000"/>
              <a:chExt cx="2521080" cy="1944360"/>
            </a:xfrm>
          </p:grpSpPr>
          <p:pic>
            <p:nvPicPr>
              <p:cNvPr id="8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79640" y="3095640"/>
                <a:ext cx="2521080" cy="14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903840" y="3095640"/>
                <a:ext cx="580680" cy="133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1440" y="2922480"/>
                <a:ext cx="231840" cy="65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22560" y="2637000"/>
                <a:ext cx="504720" cy="79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" dur="1" fill="hold"/>
                                  <p:tgtEl>
                                    <p:spTgt spid="8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380880" y="53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设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间宿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据题意得不等式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09480" y="11430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&lt;4x+19-6(x-1)&lt;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3880" y="1905120"/>
            <a:ext cx="72392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       6x&gt;4x+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(x-1)&lt;4x+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18.5&lt;x&lt;1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整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=10,11,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此可能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间宿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5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学生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间宿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6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学生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间宿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学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666880" y="205740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57240" y="261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95280" y="260280"/>
            <a:ext cx="79246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: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工厂现有甲种原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60kg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乙种原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90kg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划利用这两种原料生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种产品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生产一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品需要甲原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kg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乙原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kg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产一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品需要甲原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kg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乙原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设生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产品，写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满足的不等式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有哪几种符合的生产方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若生产一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品可获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，生产一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品可获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，那么采用哪种生产方案可使生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种产品的总获利最大？最大利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1523880" y="0"/>
            <a:ext cx="716292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路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）本题的不等关系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产品所需的甲种原料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产品所需的乙种原料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上述关系可列不等式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143000" y="3657600"/>
            <a:ext cx="33526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x+4(50-X)≤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x+10(50-x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219320" y="396252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876920" y="40384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得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0≤X≤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36640" y="4876920"/>
            <a:ext cx="8305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（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可有三种生产方案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件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件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件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件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件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838080" y="457200"/>
            <a:ext cx="782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堆苹果分给一组小朋友，如果每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还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多余，如果每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则还有一位小朋友分不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求苹果的个数和小朋友的人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219320" y="25686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解：设小朋友人数为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，则苹果数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5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+18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个，根据题意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2438280" y="3733920"/>
                <a:ext cx="3429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&lt;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2104560" y="441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971800" y="4343400"/>
                <a:ext cx="2666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&lt;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8" name=""/>
          <p:cNvSpPr/>
          <p:nvPr/>
        </p:nvSpPr>
        <p:spPr>
          <a:xfrm>
            <a:off x="1045800" y="5299200"/>
            <a:ext cx="19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得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&lt;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1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146960" y="5756400"/>
            <a:ext cx="19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368720" y="6116760"/>
            <a:ext cx="59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答：小朋友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，苹果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153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某班有若干学生住宿，若每间住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人，则有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人没宿舍住；若每间住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人则有一间没有住满人，试求该班宿舍间数及住宿人数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9280" y="198900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分析：第一个条件确定，可设有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间宿舍，则有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4x+20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个学生。有（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x-1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）间住了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8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人，住了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8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x-1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）人。最后一间为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4x+20-8(x-1)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人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不确定用不等式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55640" y="321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解：设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间宿舍，则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4x+20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人住宿，依题意可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1619280" y="4149720"/>
            <a:ext cx="2590560" cy="1083600"/>
            <a:chOff x="1619280" y="4149720"/>
            <a:chExt cx="2590560" cy="1083600"/>
          </a:xfrm>
        </p:grpSpPr>
        <p:sp>
          <p:nvSpPr>
            <p:cNvPr id="995" name=""/>
            <p:cNvSpPr/>
            <p:nvPr/>
          </p:nvSpPr>
          <p:spPr>
            <a:xfrm>
              <a:off x="1619280" y="422244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39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10880" y="414972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ac"/>
                  </a:solidFill>
                  <a:latin typeface="Arial"/>
                </a:rPr>
                <a:t>4x+20-8(x-1)&gt;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910880" y="477360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ac"/>
                  </a:solidFill>
                  <a:latin typeface="Arial"/>
                </a:rPr>
                <a:t>4x+20-8(x-1)&lt;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4520520" y="4149720"/>
            <a:ext cx="1650960" cy="1083600"/>
            <a:chOff x="4520520" y="4149720"/>
            <a:chExt cx="1650960" cy="1083600"/>
          </a:xfrm>
        </p:grpSpPr>
        <p:grpSp>
          <p:nvGrpSpPr>
            <p:cNvPr id="999" name=""/>
            <p:cNvGrpSpPr/>
            <p:nvPr/>
          </p:nvGrpSpPr>
          <p:grpSpPr>
            <a:xfrm>
              <a:off x="5183280" y="4149720"/>
              <a:ext cx="988200" cy="1083600"/>
              <a:chOff x="5183280" y="4149720"/>
              <a:chExt cx="988200" cy="1083600"/>
            </a:xfrm>
          </p:grpSpPr>
          <p:sp>
            <p:nvSpPr>
              <p:cNvPr id="1000" name=""/>
              <p:cNvSpPr/>
              <p:nvPr/>
            </p:nvSpPr>
            <p:spPr>
              <a:xfrm>
                <a:off x="5183280" y="4222440"/>
                <a:ext cx="152280" cy="91440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39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474160" y="414972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9ac"/>
                    </a:solidFill>
                    <a:latin typeface="Arial"/>
                  </a:rPr>
                  <a:t>x&lt;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474160" y="477360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9ac"/>
                    </a:solidFill>
                    <a:latin typeface="Arial"/>
                  </a:rPr>
                  <a:t>x&gt;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4520520" y="4575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9ac"/>
                  </a:solidFill>
                  <a:latin typeface="Arial"/>
                </a:rPr>
                <a:t>解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2340000" y="53737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因为宿舍是整数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x=6;     4x+20=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416320" y="62373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答：该班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间宿舍及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44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人住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0" y="1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宝和爸爸、妈妈三人在操场上玩跷跷板，爸爸体重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克，坐在跷跷板的一端，体重只有妈妈一半的小宝和妈妈一同坐在跷跷板的另一端，这时，爸爸的脚仍然着地。后来，小宝借来一副质量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克的哑铃，加在他和妈妈坐的一端，结果小宝和妈妈的脚着地。猜猜小宝的体重约有多少千克？（精确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68360" y="2421000"/>
            <a:ext cx="74102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分析：从跷跷板的两种状况可以得到的不等关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妈妈的体重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+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小宝的体重</a:t>
            </a:r>
            <a:r>
              <a:rPr b="1" lang="zh-CN" sz="2200" spc="-1" strike="noStrike" u="sng">
                <a:solidFill>
                  <a:srgbClr val="6600ff"/>
                </a:solidFill>
                <a:uFillTx/>
                <a:latin typeface="Times New Roman"/>
              </a:rPr>
              <a:t>                       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爸爸的体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妈妈的体重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+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小宝的体重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+6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千克</a:t>
            </a:r>
            <a:r>
              <a:rPr b="1" lang="zh-CN" sz="2200" spc="-1" strike="noStrike" u="sng">
                <a:solidFill>
                  <a:srgbClr val="6600ff"/>
                </a:solidFill>
                <a:uFillTx/>
                <a:latin typeface="Times New Roman"/>
              </a:rPr>
              <a:t>           </a:t>
            </a:r>
            <a:r>
              <a:rPr b="1" lang="zh-CN" sz="2200" spc="-1" strike="noStrike">
                <a:solidFill>
                  <a:srgbClr val="6600ff"/>
                </a:solidFill>
                <a:latin typeface="Times New Roman"/>
              </a:rPr>
              <a:t>爸爸的体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356000" y="2781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859280" y="3284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11280" y="4149720"/>
            <a:ext cx="76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解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设小宝的体重是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千克，则妈妈的体重是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2x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千克。由题意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2124000" y="4941720"/>
            <a:ext cx="2231640" cy="1191240"/>
            <a:chOff x="2124000" y="4941720"/>
            <a:chExt cx="2231640" cy="1191240"/>
          </a:xfrm>
        </p:grpSpPr>
        <p:sp>
          <p:nvSpPr>
            <p:cNvPr id="1012" name=""/>
            <p:cNvSpPr/>
            <p:nvPr/>
          </p:nvSpPr>
          <p:spPr>
            <a:xfrm>
              <a:off x="2287800" y="4941720"/>
              <a:ext cx="206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x+x&lt;72                  2x+x+6&gt;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124000" y="5086080"/>
              <a:ext cx="162720" cy="576360"/>
            </a:xfrm>
            <a:custGeom>
              <a:avLst/>
              <a:gdLst>
                <a:gd name="textAreaLeft" fmla="*/ 104040 w 162720"/>
                <a:gd name="textAreaRight" fmla="*/ 163080 w 16272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6400440" y="605628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9ac"/>
                </a:solidFill>
                <a:latin typeface="Arial"/>
              </a:rPr>
              <a:t>答案：</a:t>
            </a:r>
            <a:r>
              <a:rPr b="1" lang="zh-CN" sz="2800" spc="-1" strike="noStrike">
                <a:solidFill>
                  <a:srgbClr val="0039ac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四、讨论交流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38120" y="11970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某工厂现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的两种布料。现计划用这两种布料生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种型号的时装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套，已知做一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型号的时装所需的布料如下表所示，利用现有原料，工厂能否完成任务？若能，有几种生产方案？请你设计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7" name=""/>
          <p:cNvGraphicFramePr/>
          <p:nvPr/>
        </p:nvGraphicFramePr>
        <p:xfrm>
          <a:off x="579600" y="2819520"/>
          <a:ext cx="3848040" cy="1185840"/>
        </p:xfrm>
        <a:graphic>
          <a:graphicData uri="http://schemas.openxmlformats.org/drawingml/2006/table">
            <a:tbl>
              <a:tblPr/>
              <a:tblGrid>
                <a:gridCol w="368280"/>
                <a:gridCol w="1994040"/>
                <a:gridCol w="1485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70</a:t>
                      </a: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2</a:t>
                      </a: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.6</a:t>
                      </a: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.9</a:t>
                      </a: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.1</a:t>
                      </a: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.4</a:t>
                      </a: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5638680" y="5356080"/>
            <a:ext cx="3505320" cy="150192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 rot="13708200">
            <a:off x="6495840" y="3148920"/>
            <a:ext cx="1523880" cy="2203560"/>
          </a:xfrm>
          <a:prstGeom prst="cloudCallout">
            <a:avLst>
              <a:gd name="adj1" fmla="val -44620"/>
              <a:gd name="adj2" fmla="val 2908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16720" y="378936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华文行楷"/>
                <a:ea typeface="华文行楷"/>
              </a:rPr>
              <a:t>能不能完成啊，我要向厂长交代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378440" y="4384800"/>
            <a:ext cx="23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讨论：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完成任务是什么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米与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52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米是否一定要用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应该设什么为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用那些关系来列不等式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2" name=""/>
          <p:cNvGraphicFramePr/>
          <p:nvPr/>
        </p:nvGraphicFramePr>
        <p:xfrm>
          <a:off x="324000" y="371520"/>
          <a:ext cx="3848040" cy="1185840"/>
        </p:xfrm>
        <a:graphic>
          <a:graphicData uri="http://schemas.openxmlformats.org/drawingml/2006/table">
            <a:tbl>
              <a:tblPr/>
              <a:tblGrid>
                <a:gridCol w="368280"/>
                <a:gridCol w="1994040"/>
                <a:gridCol w="1485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70</a:t>
                      </a: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2</a:t>
                      </a: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.6</a:t>
                      </a: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.9</a:t>
                      </a: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.1</a:t>
                      </a: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.4</a:t>
                      </a: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3" name="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析：若设生产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型号时装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套，则生产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型号时装为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x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01600" y="2492280"/>
            <a:ext cx="8691480" cy="862560"/>
          </a:xfrm>
          <a:prstGeom prst="rect">
            <a:avLst/>
          </a:prstGeom>
          <a:noFill/>
          <a:ln w="9360">
            <a:solidFill>
              <a:srgbClr val="003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套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型时装需要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70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米布料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）套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型时装需要的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70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米布料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套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型时装需要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52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米布料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）套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型时装需要的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52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米布料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596360" y="2492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581960" y="28875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0" y="3573360"/>
            <a:ext cx="9035640" cy="1036080"/>
            <a:chOff x="0" y="3573360"/>
            <a:chExt cx="9035640" cy="1036080"/>
          </a:xfrm>
        </p:grpSpPr>
        <p:sp>
          <p:nvSpPr>
            <p:cNvPr id="1028" name=""/>
            <p:cNvSpPr/>
            <p:nvPr/>
          </p:nvSpPr>
          <p:spPr>
            <a:xfrm>
              <a:off x="0" y="3573360"/>
              <a:ext cx="89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003399"/>
                  </a:solidFill>
                  <a:latin typeface="Times New Roman"/>
                </a:rPr>
                <a:t>0.6x  + 1.1(80-x   )  ≤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09520" y="4149720"/>
              <a:ext cx="88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003399"/>
                  </a:solidFill>
                  <a:latin typeface="Times New Roman"/>
                </a:rPr>
                <a:t>0.9x +  0.4</a:t>
              </a:r>
              <a:r>
                <a:rPr b="1" lang="zh-CN" sz="2400" spc="-1" strike="noStrike">
                  <a:solidFill>
                    <a:srgbClr val="003399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3399"/>
                  </a:solidFill>
                  <a:latin typeface="Times New Roman"/>
                </a:rPr>
                <a:t>80-x</a:t>
              </a:r>
              <a:r>
                <a:rPr b="1" lang="zh-CN" sz="2400" spc="-1" strike="noStrike">
                  <a:solidFill>
                    <a:srgbClr val="003399"/>
                  </a:solidFill>
                  <a:latin typeface="Times New Roman"/>
                </a:rPr>
                <a:t>） ≤</a:t>
              </a:r>
              <a:r>
                <a:rPr b="1" lang="zh-CN" sz="2400" spc="-1" strike="noStrike">
                  <a:solidFill>
                    <a:srgbClr val="003399"/>
                  </a:solidFill>
                  <a:latin typeface="Times New Roman"/>
                </a:rPr>
                <a:t>5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29040" y="3789360"/>
              <a:ext cx="144720" cy="57636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395280" y="4581360"/>
            <a:ext cx="2808360" cy="398880"/>
            <a:chOff x="395280" y="4581360"/>
            <a:chExt cx="2808360" cy="398880"/>
          </a:xfrm>
        </p:grpSpPr>
        <p:sp>
          <p:nvSpPr>
            <p:cNvPr id="1032" name=""/>
            <p:cNvSpPr/>
            <p:nvPr/>
          </p:nvSpPr>
          <p:spPr>
            <a:xfrm>
              <a:off x="395280" y="458136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9ac"/>
                  </a:solidFill>
                  <a:latin typeface="Arial"/>
                </a:rPr>
                <a:t>解得：</a:t>
              </a:r>
              <a:r>
                <a:rPr b="1" lang="zh-CN" sz="2000" spc="-1" strike="noStrike">
                  <a:solidFill>
                    <a:srgbClr val="0039ac"/>
                  </a:solidFill>
                  <a:latin typeface="Arial"/>
                </a:rPr>
                <a:t>36       x       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33" name=""/>
            <p:cNvGraphicFramePr/>
            <p:nvPr/>
          </p:nvGraphicFramePr>
          <p:xfrm>
            <a:off x="1546200" y="4581360"/>
            <a:ext cx="300240" cy="36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46200" y="4581360"/>
                      <a:ext cx="300240" cy="3603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"/>
            <p:cNvGraphicFramePr/>
            <p:nvPr/>
          </p:nvGraphicFramePr>
          <p:xfrm>
            <a:off x="2122560" y="4581360"/>
            <a:ext cx="299880" cy="360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22560" y="4581360"/>
                      <a:ext cx="2998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7" name=""/>
          <p:cNvSpPr/>
          <p:nvPr/>
        </p:nvSpPr>
        <p:spPr>
          <a:xfrm>
            <a:off x="940320" y="5013360"/>
            <a:ext cx="208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有五种方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36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套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型和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44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套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37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套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型和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43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套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38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套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型和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42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套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39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套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型和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41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套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40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套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型和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40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套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39ac"/>
                </a:solidFill>
                <a:latin typeface="Arial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5"/>
          <a:stretch/>
        </p:blipFill>
        <p:spPr>
          <a:xfrm>
            <a:off x="7667640" y="5229360"/>
            <a:ext cx="1246320" cy="137160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4859280" y="5172120"/>
            <a:ext cx="2173320" cy="397080"/>
          </a:xfrm>
          <a:prstGeom prst="wedgeRoundRectCallout">
            <a:avLst>
              <a:gd name="adj1" fmla="val 70435"/>
              <a:gd name="adj2" fmla="val 140125"/>
              <a:gd name="adj3" fmla="val 16667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道题都能做出来，在家等着重点高中的通知书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3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3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153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用若干辆载重量为七吨的汽车运一批货物，若每辆汽车只装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吨，则剩下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吨货物，若每辆汽车装满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吨，则最后一辆汽车不满也不空。请问：有多少辆汽车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08000" y="242100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分析：设有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辆汽车，则有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4x+1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吨货物，（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x-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）辆汽车装满了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吨，最后一辆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4x+10-7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x-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）吨，根据不满也不空，可列出不等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1908000" y="3284640"/>
            <a:ext cx="2948400" cy="1144440"/>
            <a:chOff x="1908000" y="3284640"/>
            <a:chExt cx="2948400" cy="1144440"/>
          </a:xfrm>
        </p:grpSpPr>
        <p:sp>
          <p:nvSpPr>
            <p:cNvPr id="1043" name=""/>
            <p:cNvSpPr/>
            <p:nvPr/>
          </p:nvSpPr>
          <p:spPr>
            <a:xfrm>
              <a:off x="1908000" y="34081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00680" y="3284640"/>
              <a:ext cx="265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9ac"/>
                  </a:solidFill>
                  <a:latin typeface="Arial"/>
                </a:rPr>
                <a:t>4x+10-7(x-1)&gt;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200680" y="3908520"/>
              <a:ext cx="265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9ac"/>
                  </a:solidFill>
                  <a:latin typeface="Arial"/>
                </a:rPr>
                <a:t>4x+10-7(x-1)&lt;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1835280" y="4508640"/>
            <a:ext cx="5040360" cy="681120"/>
            <a:chOff x="1835280" y="4508640"/>
            <a:chExt cx="5040360" cy="681120"/>
          </a:xfrm>
        </p:grpSpPr>
        <p:grpSp>
          <p:nvGrpSpPr>
            <p:cNvPr id="1047" name=""/>
            <p:cNvGrpSpPr/>
            <p:nvPr/>
          </p:nvGrpSpPr>
          <p:grpSpPr>
            <a:xfrm>
              <a:off x="1835280" y="4508640"/>
              <a:ext cx="2468520" cy="681120"/>
              <a:chOff x="1835280" y="4508640"/>
              <a:chExt cx="2468520" cy="681120"/>
            </a:xfrm>
          </p:grpSpPr>
          <p:sp>
            <p:nvSpPr>
              <p:cNvPr id="1048" name=""/>
              <p:cNvSpPr/>
              <p:nvPr/>
            </p:nvSpPr>
            <p:spPr>
              <a:xfrm>
                <a:off x="1835280" y="4657680"/>
                <a:ext cx="246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39ac"/>
                    </a:solidFill>
                    <a:latin typeface="Arial"/>
                  </a:rPr>
                  <a:t>答案：      </a:t>
                </a:r>
                <a:r>
                  <a:rPr b="1" lang="zh-CN" sz="2000" spc="-1" strike="noStrike">
                    <a:solidFill>
                      <a:srgbClr val="0039ac"/>
                    </a:solidFill>
                    <a:latin typeface="Arial"/>
                  </a:rPr>
                  <a:t>&lt;x&lt;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049" name=""/>
              <p:cNvGraphicFramePr/>
              <p:nvPr/>
            </p:nvGraphicFramePr>
            <p:xfrm>
              <a:off x="3440160" y="4508640"/>
              <a:ext cx="397080" cy="64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440160" y="4508640"/>
                        <a:ext cx="397080" cy="64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51" name=""/>
              <p:cNvGraphicFramePr/>
              <p:nvPr/>
            </p:nvGraphicFramePr>
            <p:xfrm>
              <a:off x="2540160" y="4508640"/>
              <a:ext cx="395280" cy="681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540160" y="4508640"/>
                        <a:ext cx="395280" cy="681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53" name=""/>
            <p:cNvSpPr/>
            <p:nvPr/>
          </p:nvSpPr>
          <p:spPr>
            <a:xfrm>
              <a:off x="4212000" y="4653000"/>
              <a:ext cx="26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9ac"/>
                  </a:solidFill>
                  <a:latin typeface="Arial"/>
                </a:rPr>
                <a:t>有</a:t>
              </a:r>
              <a:r>
                <a:rPr b="1" lang="zh-CN" sz="2000" spc="-1" strike="noStrike">
                  <a:solidFill>
                    <a:srgbClr val="0039ac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39ac"/>
                  </a:solidFill>
                  <a:latin typeface="Arial"/>
                </a:rPr>
                <a:t>辆汽车或者</a:t>
              </a:r>
              <a:r>
                <a:rPr b="1" lang="zh-CN" sz="2000" spc="-1" strike="noStrike">
                  <a:solidFill>
                    <a:srgbClr val="0039ac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39ac"/>
                  </a:solidFill>
                  <a:latin typeface="Arial"/>
                </a:rPr>
                <a:t>辆汽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1295280" y="228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请同学们用学过的方法检验一下自己的能力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55" name=""/>
          <p:cNvSpPr/>
          <p:nvPr/>
        </p:nvSpPr>
        <p:spPr>
          <a:xfrm>
            <a:off x="1371600" y="12952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990720" y="12794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宝和爸爸、妈妈三人在操场上玩跷跷板，爸爸体重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克，坐在跷跷板的一端；体重只有妈妈一半的小宝和妈妈一同坐在跷跷板的另一端。这时，爸爸的一端仍然着地。后来，小宝借来一副质量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克的哑铃加在他和妈妈坐的一端，结果，爸爸被跷起离地。猜猜小宝的体重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042920" y="260280"/>
            <a:ext cx="7720200" cy="6337440"/>
          </a:xfrm>
          <a:prstGeom prst="rect">
            <a:avLst/>
          </a:prstGeom>
          <a:noFill/>
          <a:ln cap="rnd" w="38160">
            <a:solidFill>
              <a:srgbClr val="080808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flipH="1">
            <a:off x="6792480" y="572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 txBox="1"/>
          <p:nvPr/>
        </p:nvSpPr>
        <p:spPr>
          <a:xfrm>
            <a:off x="5076720" y="620640"/>
            <a:ext cx="165744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牛刀小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03" name=""/>
          <p:cNvSpPr/>
          <p:nvPr/>
        </p:nvSpPr>
        <p:spPr>
          <a:xfrm>
            <a:off x="1171440" y="2133720"/>
            <a:ext cx="76485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钝角的度数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5x-30)</a:t>
            </a:r>
            <a:r>
              <a:rPr b="1" lang="zh-CN" sz="4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取值范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332000" y="1268280"/>
            <a:ext cx="2089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填空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969840" y="0"/>
            <a:ext cx="784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宝和爸爸、妈妈三人在操场上玩跷跷板，爸爸体重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克，坐在跷跷板的一端；体重只有妈妈一半的小宝和妈妈一同坐在跷跷板的另一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时爸爸的一端仍然着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宝借来一副质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克的哑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在他和妈妈坐的一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果爸爸被跷起离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猜猜小宝的体重约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87320" y="2614680"/>
            <a:ext cx="72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这个问题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果设小宝的体重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88880" y="310356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从跷跷板的状况你可以概括出怎样的不等关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47840" y="361476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你认为怎样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范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以尽可能地接近小宝的体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5440" y="4465800"/>
            <a:ext cx="25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列不等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513160" y="4208400"/>
            <a:ext cx="36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 + x  &lt;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509920" y="4761000"/>
            <a:ext cx="34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 + x  + 6  &gt;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210280" y="4359240"/>
            <a:ext cx="340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满足以上两个不等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74840" y="5334120"/>
            <a:ext cx="80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一个量需要同时满足几个不等式的例子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在现实生活中还有很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2324160" y="4299120"/>
                <a:ext cx="576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blinds dir="vert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4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4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8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0" y="549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、把一篮苹果分给几个学生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若每人分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个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则剩余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个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若每人分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个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则</a:t>
            </a: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最后一个学生最多分得</a:t>
            </a: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个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求学生人数和苹果数分别是多少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-1440" y="3500280"/>
            <a:ext cx="91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、将若干只鸡放在若干个笼里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若每个笼里放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只鸡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则剩下一只鸡无笼可放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若每个笼里放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只鸡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则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有一笼无鸡可放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那么至少有几只鸡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多少个笼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6264000" cy="8424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2"/>
          <a:stretch/>
        </p:blipFill>
        <p:spPr>
          <a:xfrm rot="10800000">
            <a:off x="4858920" y="5300280"/>
            <a:ext cx="3457800" cy="8100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0" y="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3075c"/>
                </a:solidFill>
                <a:latin typeface="Verdana"/>
                <a:ea typeface="华文琥珀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0" y="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　　１．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堆玩具分给若干个小朋友，若每人分２件，则剩余３件；若前面每人分３件，则最后一个人得到的玩具数不足２件．求小朋友的人数与玩具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220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２．已知利民服装厂现有Ａ种布料７０米，Ｂ种布料５２米，现计划用这两种布料生产Ｍ，Ｎ两种型号的时装共８０套，已知做一套Ｍ型号时装需Ａ种布料０．６米，Ｂ种布料０．９米；做一套Ｎ型号时装需Ａ种布料１．１米，Ｂ种布料０．４米；若设生产Ｎ型号的时装套数为Ｘ，用这批布料生产这两种型号的时装有几种方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2411280" y="155736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66600" y="1052640"/>
            <a:ext cx="6947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火车站有某公司待运的甲种货物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1530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吨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乙种货物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1150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吨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现计划用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两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种型号的车厢将这批货物运至北京，已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每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型货厢的运费是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0.5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万元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每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节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厢的运费是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0.8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万元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甲种货物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吨和乙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货物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吨可装满一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型货厢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甲种货物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吨和乙种货物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吨可装满一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型货厢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此要求安排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两种货厢的节数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共有哪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种方案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请你设计出来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并说明哪种方案的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费最少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464000" cy="91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971640" y="692280"/>
            <a:ext cx="78483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某自行车厂今年生产销售一种新型自行车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现向你 提供以下信息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:                         ①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该厂去年已备用这种自行车车轮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1000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只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车轮车间今年平均每月可生产车轮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只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每辆自行车装配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只车轮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.                      ②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该厂装搭车间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最后一道工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每月至少可装搭这种自行车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1000,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但不超过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120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.  ③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该厂已收到各地客户今年订购的这种自行车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1450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辆的定货单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.                          ④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这种自行车出厂销售单价为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元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该厂今年这种自行车的销售金额为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万元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请你根据上述信息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判断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的取值范围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2340000" y="44280"/>
            <a:ext cx="4067280" cy="64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mph" presetID="1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1" dur="5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593640" y="401760"/>
            <a:ext cx="771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042920" y="260280"/>
            <a:ext cx="7720200" cy="6337440"/>
          </a:xfrm>
          <a:prstGeom prst="rect">
            <a:avLst/>
          </a:prstGeom>
          <a:noFill/>
          <a:ln cap="rnd" w="38160">
            <a:solidFill>
              <a:srgbClr val="080808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258920" y="2364480"/>
            <a:ext cx="727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）设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设适当的未知数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）列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列一元一次不等式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）解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求出一元一次不等式组的解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）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写出符合题意的答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187280" y="9482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列一元一次不等式组解应用题的一般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678200" y="5445000"/>
            <a:ext cx="4465800" cy="1079640"/>
          </a:xfrm>
          <a:prstGeom prst="cloudCallout">
            <a:avLst>
              <a:gd name="adj1" fmla="val -84268"/>
              <a:gd name="adj2" fmla="val -50000"/>
            </a:avLst>
          </a:prstGeom>
          <a:solidFill>
            <a:srgbClr val="ffff99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我来说一说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2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BB%91%E5%8A%A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20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20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6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2000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 txBox="1"/>
          <p:nvPr/>
        </p:nvSpPr>
        <p:spPr>
          <a:xfrm>
            <a:off x="2124000" y="2060640"/>
            <a:ext cx="5616720" cy="19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见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1042920" y="260280"/>
            <a:ext cx="7850160" cy="6337440"/>
          </a:xfrm>
          <a:prstGeom prst="rect">
            <a:avLst/>
          </a:prstGeom>
          <a:noFill/>
          <a:ln cap="rnd" w="38160">
            <a:solidFill>
              <a:srgbClr val="080808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flipH="1">
            <a:off x="7128000" y="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 txBox="1"/>
          <p:nvPr/>
        </p:nvSpPr>
        <p:spPr>
          <a:xfrm>
            <a:off x="5292720" y="620640"/>
            <a:ext cx="165744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牛刀小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08" name=""/>
          <p:cNvSpPr/>
          <p:nvPr/>
        </p:nvSpPr>
        <p:spPr>
          <a:xfrm>
            <a:off x="1187280" y="2133720"/>
            <a:ext cx="781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长方形足球场的宽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5m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果它的周长大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30m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面积不大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7150m</a:t>
            </a:r>
            <a:r>
              <a:rPr b="1" lang="zh-CN" sz="4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设这个足球场的长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xm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则根据题意列不等式组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332000" y="1268280"/>
            <a:ext cx="2089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填空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955800" y="264960"/>
            <a:ext cx="711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有两根木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, 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cm,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cm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再找一根木条钉成一个三角形木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么对木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长度有什么要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0"/>
            <a:ext cx="906480" cy="1312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15920" y="2154240"/>
            <a:ext cx="764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设木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长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cm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仅有小于两边之和还不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仅有大于两边之差也不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必须同时满足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x &lt; 10 + 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x &gt; 10 – 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1746360" y="3909960"/>
            <a:ext cx="4998960" cy="1818000"/>
            <a:chOff x="1746360" y="3909960"/>
            <a:chExt cx="4998960" cy="1818000"/>
          </a:xfrm>
        </p:grpSpPr>
        <p:sp>
          <p:nvSpPr>
            <p:cNvPr id="914" name=""/>
            <p:cNvSpPr/>
            <p:nvPr/>
          </p:nvSpPr>
          <p:spPr>
            <a:xfrm>
              <a:off x="1746360" y="3909960"/>
              <a:ext cx="4998960" cy="181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5" name=""/>
                <p:cNvSpPr txBox="1"/>
                <p:nvPr/>
              </p:nvSpPr>
              <p:spPr>
                <a:xfrm>
                  <a:off x="2370240" y="3992400"/>
                  <a:ext cx="2716200" cy="150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即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g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blinds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1042920" y="260280"/>
            <a:ext cx="7850160" cy="6337440"/>
          </a:xfrm>
          <a:prstGeom prst="rect">
            <a:avLst/>
          </a:prstGeom>
          <a:noFill/>
          <a:ln cap="rnd" w="38160">
            <a:solidFill>
              <a:srgbClr val="080808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119240" y="54936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把价格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克的甲种糖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克和价格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克的乙种糖果若干千克混合，要使总价不超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，且糖果不少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克，所混合的乙种糖果最少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116000" y="62064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解：设所混合的乙种糖果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xkg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根据题意，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1741320" y="2133720"/>
                <a:ext cx="6093000" cy="17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0" name=""/>
          <p:cNvSpPr/>
          <p:nvPr/>
        </p:nvSpPr>
        <p:spPr>
          <a:xfrm>
            <a:off x="1476360" y="414972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解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2678040" y="3933720"/>
                <a:ext cx="35798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2" name=""/>
          <p:cNvSpPr/>
          <p:nvPr/>
        </p:nvSpPr>
        <p:spPr>
          <a:xfrm>
            <a:off x="1403280" y="544500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答：乙种糖果最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820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、有一班学生全住宿，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间宿舍，每间住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人，还有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人没得住，这班学生有                人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356000" y="2060640"/>
            <a:ext cx="158436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24000" y="2276640"/>
            <a:ext cx="882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幼儿园老师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小朋友发糖果，每人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，结果有一个小朋友哭了，其他人都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，只有他虽然有但不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，请问老师拿多少个糖果来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266280" y="602136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9ac"/>
                </a:solidFill>
                <a:latin typeface="Arial"/>
              </a:rPr>
              <a:t>答案：</a:t>
            </a:r>
            <a:r>
              <a:rPr b="1" lang="zh-CN" sz="2800" spc="-1" strike="noStrike">
                <a:solidFill>
                  <a:srgbClr val="0039ac"/>
                </a:solidFill>
                <a:latin typeface="Arial"/>
              </a:rPr>
              <a:t>146</a:t>
            </a:r>
            <a:r>
              <a:rPr b="1" lang="zh-CN" sz="2800" spc="-1" strike="noStrike">
                <a:solidFill>
                  <a:srgbClr val="0039a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9ac"/>
                </a:solidFill>
                <a:latin typeface="Arial"/>
              </a:rPr>
              <a:t>147</a:t>
            </a:r>
            <a:r>
              <a:rPr b="1" lang="zh-CN" sz="2800" spc="-1" strike="noStrike">
                <a:solidFill>
                  <a:srgbClr val="0039a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9ac"/>
                </a:solidFill>
                <a:latin typeface="Arial"/>
              </a:rPr>
              <a:t>148</a:t>
            </a:r>
            <a:r>
              <a:rPr b="1" lang="zh-CN" sz="2800" spc="-1" strike="noStrike">
                <a:solidFill>
                  <a:srgbClr val="0039a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9ac"/>
                </a:solidFill>
                <a:latin typeface="Arial"/>
              </a:rPr>
              <a:t>1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574880" y="160344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Arial"/>
              </a:rPr>
              <a:t>10x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3"/>
          <a:stretch/>
        </p:blipFill>
        <p:spPr>
          <a:xfrm>
            <a:off x="2209680" y="403848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4"/>
          <a:stretch/>
        </p:blipFill>
        <p:spPr>
          <a:xfrm>
            <a:off x="2819520" y="40384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3414240" y="3757680"/>
            <a:ext cx="143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5"/>
          <a:stretch/>
        </p:blipFill>
        <p:spPr>
          <a:xfrm>
            <a:off x="4876920" y="40384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976320" y="354636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5        5      5       5                  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448360" y="46134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212640" y="462744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Times New Roman"/>
              </a:rPr>
              <a:t>×5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6012000" y="4005360"/>
            <a:ext cx="2088360" cy="1218960"/>
            <a:chOff x="6012000" y="4005360"/>
            <a:chExt cx="2088360" cy="1218960"/>
          </a:xfrm>
        </p:grpSpPr>
        <p:pic>
          <p:nvPicPr>
            <p:cNvPr id="938" name="" descr=""/>
            <p:cNvPicPr/>
            <p:nvPr/>
          </p:nvPicPr>
          <p:blipFill>
            <a:blip r:embed="rId6"/>
            <a:stretch/>
          </p:blipFill>
          <p:spPr>
            <a:xfrm>
              <a:off x="7171560" y="4512960"/>
              <a:ext cx="515160" cy="67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9" name=""/>
            <p:cNvGrpSpPr/>
            <p:nvPr/>
          </p:nvGrpSpPr>
          <p:grpSpPr>
            <a:xfrm>
              <a:off x="6012000" y="4005360"/>
              <a:ext cx="2088360" cy="1218960"/>
              <a:chOff x="6012000" y="4005360"/>
              <a:chExt cx="2088360" cy="1218960"/>
            </a:xfrm>
          </p:grpSpPr>
          <p:sp>
            <p:nvSpPr>
              <p:cNvPr id="940" name=""/>
              <p:cNvSpPr/>
              <p:nvPr/>
            </p:nvSpPr>
            <p:spPr>
              <a:xfrm>
                <a:off x="6012000" y="4005360"/>
                <a:ext cx="2088360" cy="4986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怎么我那么少啊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951600" y="4503960"/>
                <a:ext cx="104400" cy="72036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"/>
          <p:cNvSpPr/>
          <p:nvPr/>
        </p:nvSpPr>
        <p:spPr>
          <a:xfrm>
            <a:off x="6159960" y="3573360"/>
            <a:ext cx="12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个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547640" y="537372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0-1)×5&lt;x&lt;30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95280" y="544500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 rot="5401200">
            <a:off x="3097080" y="2598840"/>
            <a:ext cx="214200" cy="4034160"/>
          </a:xfrm>
          <a:custGeom>
            <a:avLst/>
            <a:gdLst>
              <a:gd name="textAreaLeft" fmla="*/ 136440 w 214200"/>
              <a:gd name="textAreaRight" fmla="*/ 214200 w 214200"/>
              <a:gd name="textAreaTop" fmla="*/ 105120 h 4034160"/>
              <a:gd name="textAreaBottom" fmla="*/ 3929040 h 403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3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3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826920" y="549360"/>
            <a:ext cx="6516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例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一群女生住若干间宿舍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每间住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人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剩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19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人无房住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每间住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人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有一间宿舍住不满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(1)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设有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间宿舍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请写出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应满足的不等式组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(2)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可能有多少间宿舍和多少名学生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思路分析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143000" y="7621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里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间宿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间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剩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学生人数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X+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每间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有一间住不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 是什么不等关系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明白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057400" y="3602160"/>
            <a:ext cx="685800" cy="761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743200" y="3602160"/>
            <a:ext cx="685800" cy="761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181480" y="3602160"/>
            <a:ext cx="2057400" cy="761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371600" y="3602160"/>
            <a:ext cx="685800" cy="761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429000" y="4363920"/>
            <a:ext cx="106668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3429000" y="3602160"/>
            <a:ext cx="106668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523880" y="3754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87800" y="3754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895480" y="3754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657600" y="2230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X+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676160" y="2687760"/>
            <a:ext cx="1981080" cy="8380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2590920" y="2687760"/>
            <a:ext cx="1371600" cy="76176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3276720" y="2687760"/>
            <a:ext cx="838080" cy="76176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809880" y="2687760"/>
            <a:ext cx="457200" cy="76176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181480" y="3733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之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72000" y="2840040"/>
            <a:ext cx="21337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一间宿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95680" y="3602160"/>
            <a:ext cx="685800" cy="761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7260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286000" y="4343400"/>
            <a:ext cx="182880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00" y="6480"/>
                </a:moveTo>
                <a:lnTo>
                  <a:pt x="34331" y="6480"/>
                </a:lnTo>
                <a:lnTo>
                  <a:pt x="34331" y="6480"/>
                </a:lnTo>
                <a:lnTo>
                  <a:pt x="-9075" y="5130"/>
                </a:lnTo>
              </a:path>
              <a:path w="21600" h="21600">
                <a:moveTo>
                  <a:pt x="22500" y="0"/>
                </a:moveTo>
                <a:lnTo>
                  <a:pt x="22500" y="21600"/>
                </a:lnTo>
              </a:path>
            </a:pathLst>
          </a:custGeom>
          <a:solidFill>
            <a:srgbClr val="ff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X-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宿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572000" y="2687760"/>
            <a:ext cx="1295280" cy="8380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08040" y="604044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09480" y="6019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列不等式组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   0&lt;4x+19-6(x-1)&lt;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28600" y="5105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看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 0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后一间宿舍住的人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&lt;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23:47:50Z</dcterms:created>
  <dc:creator>www.dearedu.com</dc:creator>
  <dc:description>www.dearedu.com</dc:description>
  <cp:keywords>www.dearedu.com</cp:keywords>
  <dc:language>en-US</dc:language>
  <cp:lastModifiedBy>dawei</cp:lastModifiedBy>
  <dcterms:modified xsi:type="dcterms:W3CDTF">2006-05-20T03:50:00Z</dcterms:modified>
  <cp:revision>20</cp:revision>
  <dc:subject>www.dearedu.com</dc:subject>
  <dc:title>www.dearedu.com</dc:title>
</cp:coreProperties>
</file>